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F95E09-341C-436E-AA53-F79AEFC5670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0A5-2F0C-4951-B6B0-DA451DDE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8682-875D-4825-A5B5-9EA5CE7E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85F-7097-44E8-B354-47B2252F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92C-A235-4027-848D-031AF2E3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C7E8-6931-40DE-B571-948D8F4B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2F92-EDF4-4E83-979D-515F5838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DC56-0CE8-42C3-A8B1-E30A4320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1CE9-E4CD-4459-873A-85F27955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3BD4-420F-49FF-9D5B-B66C2788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BB1C-2DB2-4DE5-A9A7-5D8CD1CE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6992-001B-4998-A90F-D66EAD99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F992-21FC-4C61-A670-2B2E8206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78D3-236C-4E57-AC3E-BF7384BD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20FF-FFE8-4117-8BCB-5DFC4953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61C6-2B2A-45D6-A0C1-A58BA26A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9B3A-96A5-41EE-8452-99843905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F049-7487-4162-8AFB-8D5564F5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696-D371-46EE-A033-BAF9EF4F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15A-C5B0-4826-A909-8CA63355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4FB-47A9-4C04-B358-1358D976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F35-9195-4160-9598-5AB7B992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1D6-1BA7-4575-99CC-9BBB0EA6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0EF-6647-422D-B023-A61B10A6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24F-1255-46BB-8A63-F52C04A1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3444-5222-4A7C-916E-799DD22A2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589D-4ADB-43A5-AFF0-1D2C28FFC0EF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&amp; Networ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File Synchroniz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ile synch: The probl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3573360"/>
            <a:ext cx="8351640" cy="26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lient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request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o update an old f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erver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has new file bu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does not know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he old f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updates f_ol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without sending the entire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f_new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sync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:  file synch tool, distributed with Linu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765440" y="1700280"/>
            <a:ext cx="13716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651640" y="1700280"/>
            <a:ext cx="13716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3289320" y="285768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951920" y="31129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906160" y="31129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438360" y="2428920"/>
            <a:ext cx="1011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936080" y="2157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_new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889240" y="2198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_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5880240" y="2198520"/>
            <a:ext cx="99036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933560" y="2157480"/>
            <a:ext cx="99072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3214800" y="214308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4125600" y="1714680"/>
            <a:ext cx="108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971640" y="5950080"/>
            <a:ext cx="7345440" cy="691920"/>
          </a:xfrm>
          <a:prstGeom prst="roundRect">
            <a:avLst>
              <a:gd name="adj" fmla="val 16667"/>
            </a:avLst>
          </a:prstGeom>
          <a:solidFill>
            <a:srgbClr val="969696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Lucida Sans"/>
                <a:ea typeface="Arial"/>
              </a:rPr>
              <a:t>Delta compression is a sort of local syn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Lucida Sans"/>
                <a:ea typeface="Arial"/>
              </a:rPr>
              <a:t>Since the server knows both f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rsync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622520" y="1628640"/>
            <a:ext cx="1371600" cy="144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508720" y="1628640"/>
            <a:ext cx="1371600" cy="144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3146400" y="281448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802160" y="31179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5738040" y="311796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016080" y="2357280"/>
            <a:ext cx="1665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ncoded fi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793160" y="20858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_new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746320" y="21272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_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5737320" y="2127240"/>
            <a:ext cx="99036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1790640" y="2085840"/>
            <a:ext cx="99072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8" name="Picture 18" descr="fig2-1"/>
          <p:cNvPicPr/>
          <p:nvPr/>
        </p:nvPicPr>
        <p:blipFill>
          <a:blip r:embed="rId1"/>
          <a:stretch/>
        </p:blipFill>
        <p:spPr>
          <a:xfrm>
            <a:off x="1042920" y="3789360"/>
            <a:ext cx="6818400" cy="3024360"/>
          </a:xfrm>
          <a:prstGeom prst="rect">
            <a:avLst/>
          </a:prstGeom>
          <a:ln w="0">
            <a:noFill/>
          </a:ln>
        </p:spPr>
      </p:pic>
      <p:sp>
        <p:nvSpPr>
          <p:cNvPr id="199" name="Line 14"/>
          <p:cNvSpPr/>
          <p:nvPr/>
        </p:nvSpPr>
        <p:spPr>
          <a:xfrm>
            <a:off x="3143160" y="2143080"/>
            <a:ext cx="2210040" cy="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859200" y="1722600"/>
            <a:ext cx="1511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40508"/>
                </a:solidFill>
                <a:latin typeface="Times New Roman"/>
                <a:ea typeface="Arial"/>
              </a:rPr>
              <a:t>few hash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rsync algorithm 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contd)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4652640"/>
            <a:ext cx="83534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imple, widely used,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singl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roundtri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ptimizations: 4-byte 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rolling hash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+ 2-byte 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MD5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1800" spc="-1" strike="noStrike">
                <a:solidFill>
                  <a:srgbClr val="a40508"/>
                </a:solidFill>
                <a:latin typeface="Lucida Sans"/>
              </a:rPr>
              <a:t>gzip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 literal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hoice of block size problematic  (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: max{700, √n}  bytes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ot good in theory: </a:t>
            </a: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granularity of changes may disrupt use of bloc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3" name="Picture 4" descr="fig2-1"/>
          <p:cNvPicPr/>
          <p:nvPr/>
        </p:nvPicPr>
        <p:blipFill>
          <a:blip r:embed="rId1"/>
          <a:stretch/>
        </p:blipFill>
        <p:spPr>
          <a:xfrm>
            <a:off x="1042920" y="1628640"/>
            <a:ext cx="68184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new framework: </a:t>
            </a:r>
            <a:r>
              <a:rPr b="0" lang="it-IT" sz="4000" spc="-1" strike="noStrike">
                <a:solidFill>
                  <a:srgbClr val="a40508"/>
                </a:solidFill>
                <a:latin typeface="Lucida Sans"/>
              </a:rPr>
              <a:t>zsync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396108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4"/>
          <p:cNvSpPr/>
          <p:nvPr/>
        </p:nvSpPr>
        <p:spPr>
          <a:xfrm>
            <a:off x="611280" y="5560920"/>
            <a:ext cx="8281800" cy="1297080"/>
          </a:xfrm>
          <a:prstGeom prst="roundRect">
            <a:avLst>
              <a:gd name="adj" fmla="val 799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  <a:ea typeface="Arial"/>
              </a:rPr>
              <a:t>Server sends hashes (unlike the client in rsync), clients checks the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  <a:ea typeface="Arial"/>
              </a:rPr>
              <a:t>Server deploys the common f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ref 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  <a:ea typeface="Arial"/>
              </a:rPr>
              <a:t> to compress the new f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tar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  <a:ea typeface="Arial"/>
              </a:rPr>
              <a:t> (rsync compress just it).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Line 5"/>
          <p:cNvSpPr/>
          <p:nvPr/>
        </p:nvSpPr>
        <p:spPr>
          <a:xfrm flipH="1">
            <a:off x="4716000" y="1557360"/>
            <a:ext cx="71640" cy="388764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recsync"/>
          <p:cNvPicPr/>
          <p:nvPr/>
        </p:nvPicPr>
        <p:blipFill>
          <a:blip r:embed="rId1"/>
          <a:stretch/>
        </p:blipFill>
        <p:spPr>
          <a:xfrm>
            <a:off x="622440" y="1782720"/>
            <a:ext cx="7334280" cy="41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mall differences (e.g. agenda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600" y="6276600"/>
            <a:ext cx="89964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f </a:t>
            </a:r>
            <a:r>
              <a:rPr b="0" lang="en-US" sz="16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differences, then on each level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Lucida Sans"/>
              </a:rPr>
              <a:t> d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hashes not match, and need to continu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880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Communication complexity is </a:t>
            </a:r>
            <a:r>
              <a:rPr b="0" lang="en-US" sz="1600" spc="-1" strike="noStrike">
                <a:solidFill>
                  <a:srgbClr val="ff0000"/>
                </a:solidFill>
                <a:latin typeface="Lucida Sans"/>
              </a:rPr>
              <a:t>O(d lg(n/k) * lg n)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bits 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[1 upward path per different k-block]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83880" y="5729400"/>
            <a:ext cx="1658880" cy="5806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n/k block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of k elems eac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83520" y="3247920"/>
            <a:ext cx="1482120" cy="3373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Log n/k level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Rettangolo 1"/>
          <p:cNvSpPr/>
          <p:nvPr/>
        </p:nvSpPr>
        <p:spPr>
          <a:xfrm>
            <a:off x="1763640" y="4941720"/>
            <a:ext cx="64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Rettangolo 7"/>
          <p:cNvSpPr/>
          <p:nvPr/>
        </p:nvSpPr>
        <p:spPr>
          <a:xfrm>
            <a:off x="2627280" y="4941720"/>
            <a:ext cx="6494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Rettangolo 8"/>
          <p:cNvSpPr/>
          <p:nvPr/>
        </p:nvSpPr>
        <p:spPr>
          <a:xfrm>
            <a:off x="4500720" y="4365720"/>
            <a:ext cx="1079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Rettangolo 9"/>
          <p:cNvSpPr/>
          <p:nvPr/>
        </p:nvSpPr>
        <p:spPr>
          <a:xfrm>
            <a:off x="6084720" y="5445000"/>
            <a:ext cx="358920" cy="28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Rettangolo 11"/>
          <p:cNvSpPr/>
          <p:nvPr/>
        </p:nvSpPr>
        <p:spPr>
          <a:xfrm>
            <a:off x="6948360" y="4869000"/>
            <a:ext cx="64800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Rettangolo 12"/>
          <p:cNvSpPr/>
          <p:nvPr/>
        </p:nvSpPr>
        <p:spPr>
          <a:xfrm>
            <a:off x="3419640" y="5445000"/>
            <a:ext cx="360360" cy="28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Freccia in giù 2"/>
          <p:cNvSpPr/>
          <p:nvPr/>
        </p:nvSpPr>
        <p:spPr>
          <a:xfrm>
            <a:off x="7956720" y="3646440"/>
            <a:ext cx="790560" cy="2303640"/>
          </a:xfrm>
          <a:prstGeom prst="downArrow">
            <a:avLst>
              <a:gd name="adj1" fmla="val 50000"/>
              <a:gd name="adj2" fmla="val 5003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CasellaDiTesto 3"/>
          <p:cNvSpPr/>
          <p:nvPr/>
        </p:nvSpPr>
        <p:spPr>
          <a:xfrm>
            <a:off x="5444280" y="407664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Lucida Sans"/>
              </a:rPr>
              <a:t>match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6695640" y="2276640"/>
            <a:ext cx="2282040" cy="12960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Server</a:t>
            </a:r>
            <a:r>
              <a:rPr b="0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 sends hashe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to client per level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Client </a:t>
            </a:r>
            <a:r>
              <a:rPr b="0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checks equalit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with hash-substring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ttangolo 16"/>
          <p:cNvSpPr/>
          <p:nvPr/>
        </p:nvSpPr>
        <p:spPr>
          <a:xfrm>
            <a:off x="1258920" y="5445000"/>
            <a:ext cx="360360" cy="28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24000" y="3716280"/>
            <a:ext cx="8610480" cy="28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network links are getting faster and faster but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"/>
              </a:rPr>
              <a:t>many clients still connected by fairly slow links (mobile?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"/>
              </a:rPr>
              <a:t>people wish to send more and more dat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  <a:ea typeface="Arial"/>
              </a:rPr>
              <a:t>battery life is a king proble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Arial"/>
              </a:rPr>
              <a:t>how can we make this transparent to the user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46200" y="1773360"/>
            <a:ext cx="144792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508720" y="1773360"/>
            <a:ext cx="13716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146400" y="245916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766880" y="3297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663880" y="32972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716280" y="1909800"/>
            <a:ext cx="7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5661000" y="2001960"/>
            <a:ext cx="533520" cy="15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679920" y="1909800"/>
            <a:ext cx="761760" cy="3808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719360" y="2217600"/>
            <a:ext cx="10738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bout dat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t receive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698480" y="2154240"/>
            <a:ext cx="1143000" cy="7621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6041880" y="2306520"/>
            <a:ext cx="533520" cy="152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5813280" y="2611440"/>
            <a:ext cx="533520" cy="15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041880" y="2916360"/>
            <a:ext cx="533520" cy="15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wo standard techniq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caching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“avoid sending the same object again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one on the basis of “atomic” objec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us only works if objects are unchang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How about objects that are slightly changed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compres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“remove redundancy in transmitted data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void repeated substrings in transmitted data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n be extended to history of past transmissions  </a:t>
            </a:r>
            <a:r>
              <a:rPr b="0" lang="en-US" sz="1200" spc="-1" strike="noStrike">
                <a:solidFill>
                  <a:srgbClr val="a40508"/>
                </a:solidFill>
                <a:latin typeface="Lucida Sans"/>
              </a:rPr>
              <a:t>(overhead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How if the sender has never seen data at receiver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ypes of Techniq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ommon knowledge between sender &amp; receive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Unstructured file:</a:t>
            </a:r>
            <a:r>
              <a:rPr b="0" lang="it-IT" sz="2200" spc="-1" strike="noStrike">
                <a:solidFill>
                  <a:srgbClr val="ff0000"/>
                </a:solidFill>
                <a:latin typeface="Lucida Sans"/>
              </a:rPr>
              <a:t> delta compressio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artial” knowled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Unstructured files: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file synchroniz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ecord-based data: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set reconcili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596600"/>
            <a:ext cx="8713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Delta compression</a:t>
            </a:r>
            <a:r>
              <a:rPr b="0" lang="en-US" sz="2700" spc="-1" strike="noStrike">
                <a:solidFill>
                  <a:srgbClr val="cc0000"/>
                </a:solidFill>
                <a:latin typeface="Lucida Sans"/>
              </a:rPr>
              <a:t>      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[</a:t>
            </a:r>
            <a:r>
              <a:rPr b="0" i="1" lang="en-US" sz="1800" spc="-1" strike="noStrike">
                <a:solidFill>
                  <a:srgbClr val="ff0000"/>
                </a:solidFill>
                <a:latin typeface="Lucida Sans"/>
              </a:rPr>
              <a:t>diff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, </a:t>
            </a:r>
            <a:r>
              <a:rPr b="0" i="1" lang="en-US" sz="1800" spc="-1" strike="noStrike">
                <a:solidFill>
                  <a:srgbClr val="3333cc"/>
                </a:solidFill>
                <a:latin typeface="Lucida Sans"/>
              </a:rPr>
              <a:t>zdelta, REBL,…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ress file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deploying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know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ile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f’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ress a group of f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Speed-up web access by sending differences between the requested page and the ones available in cach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File synchronization   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[</a:t>
            </a:r>
            <a:r>
              <a:rPr b="0" i="1" lang="en-US" sz="1800" spc="-1" strike="noStrike">
                <a:solidFill>
                  <a:srgbClr val="3333cc"/>
                </a:solidFill>
                <a:latin typeface="Lucida Sans"/>
              </a:rPr>
              <a:t>rsynch, zsync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lient updates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old fil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ol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with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on a server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Mirroring, Shared Crawling, Content Distr. Ne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Set reconcili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lient updates its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ructure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il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ol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with fil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on ser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Update of contacts or appointments, intersect IL in P2P search engin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Z-delta compression </a:t>
            </a:r>
            <a:r>
              <a:rPr b="0" lang="it-IT" sz="2400" spc="-1" strike="noStrike">
                <a:solidFill>
                  <a:srgbClr val="a40508"/>
                </a:solidFill>
                <a:latin typeface="Lucida Sans"/>
              </a:rPr>
              <a:t>(one-to-on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40508"/>
                </a:solidFill>
                <a:uFillTx/>
                <a:latin typeface="Lucida Sans"/>
              </a:rPr>
              <a:t>Problem: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We have two files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known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and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new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(known to both parties) and the goal is to compute a file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d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of minimum size such that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new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can be derived from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known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and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253800" indent="-25380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ssume that block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move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opie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are allow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53800" indent="-2538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Find an optimal covering set of f</a:t>
            </a:r>
            <a:r>
              <a:rPr b="1" lang="en-US" sz="1800" spc="-1" strike="noStrike" baseline="-25000">
                <a:solidFill>
                  <a:srgbClr val="c00000"/>
                </a:solidFill>
                <a:latin typeface="Lucida Sans"/>
              </a:rPr>
              <a:t>new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 based on f</a:t>
            </a:r>
            <a:r>
              <a:rPr b="1" lang="en-US" sz="1800" spc="-1" strike="noStrike" baseline="-25000">
                <a:solidFill>
                  <a:srgbClr val="c00000"/>
                </a:solidFill>
                <a:latin typeface="Lucida Sans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53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53800" indent="-25380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LZ77-schem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rovides and efficient, optimal solutio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549720" indent="-21132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known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s “previously encoded text”, compress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known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new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tarting from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new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53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53800" indent="-25380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508"/>
                </a:solidFill>
                <a:latin typeface="Lucida Sans"/>
              </a:rPr>
              <a:t>zdelta</a:t>
            </a:r>
            <a:r>
              <a:rPr b="0" lang="en-US" sz="1800" spc="-1" strike="noStrike">
                <a:solidFill>
                  <a:srgbClr val="a40508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s one of the best implementation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53800" indent="-25380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Uses e.g. in Version control, Backups, and Transmission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2843280" y="3068640"/>
            <a:ext cx="865080" cy="360360"/>
          </a:xfrm>
          <a:prstGeom prst="rect">
            <a:avLst/>
          </a:prstGeom>
          <a:solidFill>
            <a:srgbClr val="3333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940360" y="3068640"/>
            <a:ext cx="865080" cy="360360"/>
          </a:xfrm>
          <a:prstGeom prst="rect">
            <a:avLst/>
          </a:prstGeom>
          <a:solidFill>
            <a:srgbClr val="3333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Efficient Web Acces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4220640"/>
            <a:ext cx="8928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zdelta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o reduce traffic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40508"/>
                </a:solidFill>
                <a:latin typeface="Lucida Sans"/>
              </a:rPr>
              <a:t>Old version is available at both proxies (one on client cache, and one on proxy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40508"/>
                </a:solidFill>
                <a:latin typeface="Lucida Sans"/>
              </a:rPr>
              <a:t>Restricted to pages already visited (30% cache hits), or URL-prefix matc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95280" y="1700280"/>
            <a:ext cx="8640720" cy="76500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Dual proxy architecture: pair of proxies (client cache + proxy) located on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each side of the slow link use a proprietary protocol to increase comm perf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948360" y="5445000"/>
            <a:ext cx="197964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mall cach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971640" y="2924280"/>
            <a:ext cx="1371600" cy="726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2411280" y="3068640"/>
            <a:ext cx="17290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251720" y="292428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808720" y="2781360"/>
            <a:ext cx="913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2411280" y="3429000"/>
            <a:ext cx="172908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505600" y="3429000"/>
            <a:ext cx="1632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Delta-encodin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4211640" y="2924280"/>
            <a:ext cx="1371600" cy="726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4499280" y="2997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5651640" y="3068640"/>
            <a:ext cx="143496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5833080" y="2781360"/>
            <a:ext cx="913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5651640" y="3429000"/>
            <a:ext cx="136368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6061680" y="3429000"/>
            <a:ext cx="65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AutoShape 20"/>
          <p:cNvSpPr/>
          <p:nvPr/>
        </p:nvSpPr>
        <p:spPr>
          <a:xfrm>
            <a:off x="7093080" y="2708280"/>
            <a:ext cx="1368360" cy="108108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f01"/>
                </a:solidFill>
                <a:latin typeface="Lucida Sans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4427640" y="3357720"/>
            <a:ext cx="720720" cy="21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cf01"/>
                </a:solidFill>
                <a:latin typeface="Lucida Sans"/>
                <a:ea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Rectangle 22"/>
          <p:cNvSpPr/>
          <p:nvPr/>
        </p:nvSpPr>
        <p:spPr>
          <a:xfrm>
            <a:off x="1258920" y="3257640"/>
            <a:ext cx="793800" cy="315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cf01"/>
                </a:solidFill>
                <a:latin typeface="Lucida Sans"/>
                <a:ea typeface="Arial"/>
              </a:rPr>
              <a:t>Cach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cf01"/>
                </a:solidFill>
                <a:latin typeface="Lucida Sans"/>
                <a:ea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2792880" y="30686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Slow-link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5907240" y="306864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Fast-link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59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Cluster-based delta compress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40508"/>
                </a:solidFill>
                <a:uFillTx/>
                <a:latin typeface="Lucida Sans"/>
              </a:rPr>
              <a:t>Problem: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We wish to compress a group of files 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eful on a dynamic collection of web pages, back-ups, …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ly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pairwis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zdelta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: find a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good reference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 each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duction to the Min Branching problem on DAG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60000"/>
              </a:lnSpc>
              <a:spcBef>
                <a:spcPts val="37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Build a (</a:t>
            </a:r>
            <a:r>
              <a:rPr b="1" lang="en-US" sz="1500" spc="-1" strike="noStrike">
                <a:solidFill>
                  <a:srgbClr val="000000"/>
                </a:solidFill>
                <a:latin typeface="Lucida Sans"/>
              </a:rPr>
              <a:t>complete?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) weighted graph G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, nodes=files, weights= </a:t>
            </a:r>
            <a:r>
              <a:rPr b="1" lang="en-US" sz="1500" spc="-1" strike="noStrike">
                <a:solidFill>
                  <a:srgbClr val="000000"/>
                </a:solidFill>
                <a:latin typeface="Lucida Sans"/>
              </a:rPr>
              <a:t>zdelta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-size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Insert a dummy node connected to all, and weights are </a:t>
            </a:r>
            <a:r>
              <a:rPr b="1" lang="en-US" sz="1500" spc="-1" strike="noStrike">
                <a:solidFill>
                  <a:srgbClr val="000000"/>
                </a:solidFill>
                <a:latin typeface="Lucida Sans"/>
              </a:rPr>
              <a:t>gzip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-coding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Compute the directed spanning tree of min tot cost, covering G’s nodes.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00720" y="5402160"/>
          <a:ext cx="4464000" cy="1341720"/>
        </p:xfrm>
        <a:graphic>
          <a:graphicData uri="http://schemas.openxmlformats.org/drawingml/2006/table">
            <a:tbl>
              <a:tblPr/>
              <a:tblGrid>
                <a:gridCol w="1296720"/>
                <a:gridCol w="247680"/>
                <a:gridCol w="1635120"/>
                <a:gridCol w="12844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ncom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g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quadr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1" name="Group 54"/>
          <p:cNvGrpSpPr/>
          <p:nvPr/>
        </p:nvGrpSpPr>
        <p:grpSpPr>
          <a:xfrm>
            <a:off x="324000" y="5222880"/>
            <a:ext cx="2087280" cy="1522440"/>
            <a:chOff x="324000" y="5222880"/>
            <a:chExt cx="2087280" cy="1522440"/>
          </a:xfrm>
        </p:grpSpPr>
        <p:sp>
          <p:nvSpPr>
            <p:cNvPr id="142" name="Oval 31"/>
            <p:cNvSpPr/>
            <p:nvPr/>
          </p:nvSpPr>
          <p:spPr>
            <a:xfrm>
              <a:off x="1979640" y="5726160"/>
              <a:ext cx="431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Oval 32"/>
            <p:cNvSpPr/>
            <p:nvPr/>
          </p:nvSpPr>
          <p:spPr>
            <a:xfrm>
              <a:off x="1116000" y="6375240"/>
              <a:ext cx="431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Oval 33"/>
            <p:cNvSpPr/>
            <p:nvPr/>
          </p:nvSpPr>
          <p:spPr>
            <a:xfrm>
              <a:off x="1116000" y="5294160"/>
              <a:ext cx="43164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Text Box 34"/>
            <p:cNvSpPr/>
            <p:nvPr/>
          </p:nvSpPr>
          <p:spPr>
            <a:xfrm>
              <a:off x="1187280" y="529416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Text Box 35"/>
            <p:cNvSpPr/>
            <p:nvPr/>
          </p:nvSpPr>
          <p:spPr>
            <a:xfrm>
              <a:off x="2059200" y="5726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47" name="Group 36"/>
            <p:cNvGrpSpPr/>
            <p:nvPr/>
          </p:nvGrpSpPr>
          <p:grpSpPr>
            <a:xfrm>
              <a:off x="324000" y="6014880"/>
              <a:ext cx="431640" cy="368280"/>
              <a:chOff x="324000" y="6014880"/>
              <a:chExt cx="431640" cy="368280"/>
            </a:xfrm>
          </p:grpSpPr>
          <p:sp>
            <p:nvSpPr>
              <p:cNvPr id="148" name="Oval 37"/>
              <p:cNvSpPr/>
              <p:nvPr/>
            </p:nvSpPr>
            <p:spPr>
              <a:xfrm>
                <a:off x="324000" y="6014880"/>
                <a:ext cx="431640" cy="36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49" name="Text Box 38"/>
              <p:cNvSpPr/>
              <p:nvPr/>
            </p:nvSpPr>
            <p:spPr>
              <a:xfrm>
                <a:off x="405360" y="601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50" name="Text Box 39"/>
            <p:cNvSpPr/>
            <p:nvPr/>
          </p:nvSpPr>
          <p:spPr>
            <a:xfrm>
              <a:off x="1195560" y="6375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Line 40"/>
            <p:cNvSpPr/>
            <p:nvPr/>
          </p:nvSpPr>
          <p:spPr>
            <a:xfrm>
              <a:off x="1332000" y="5654520"/>
              <a:ext cx="0" cy="72072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Line 41"/>
            <p:cNvSpPr/>
            <p:nvPr/>
          </p:nvSpPr>
          <p:spPr>
            <a:xfrm>
              <a:off x="755640" y="6230880"/>
              <a:ext cx="3603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53" name="AutoShape 42"/>
            <p:cNvCxnSpPr>
              <a:stCxn id="152" idx="0"/>
              <a:endCxn id="149" idx="3"/>
            </p:cNvCxnSpPr>
            <p:nvPr/>
          </p:nvCxnSpPr>
          <p:spPr>
            <a:xfrm flipV="1" rot="16200000">
              <a:off x="760680" y="6162840"/>
              <a:ext cx="319680" cy="391320"/>
            </a:xfrm>
            <a:prstGeom prst="curvedConnector5">
              <a:avLst>
                <a:gd name="adj1" fmla="val -71138"/>
                <a:gd name="adj2" fmla="val 48158"/>
                <a:gd name="adj3" fmla="val -71138"/>
              </a:avLst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54" name="Text Box 43"/>
            <p:cNvSpPr/>
            <p:nvPr/>
          </p:nvSpPr>
          <p:spPr>
            <a:xfrm>
              <a:off x="556200" y="637524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123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Text Box 44"/>
            <p:cNvSpPr/>
            <p:nvPr/>
          </p:nvSpPr>
          <p:spPr>
            <a:xfrm>
              <a:off x="821160" y="61070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Text Box 45"/>
            <p:cNvSpPr/>
            <p:nvPr/>
          </p:nvSpPr>
          <p:spPr>
            <a:xfrm>
              <a:off x="1270440" y="587052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57" name="AutoShape 46"/>
            <p:cNvCxnSpPr>
              <a:stCxn id="144" idx="2"/>
              <a:endCxn id="149" idx="0"/>
            </p:cNvCxnSpPr>
            <p:nvPr/>
          </p:nvCxnSpPr>
          <p:spPr>
            <a:xfrm flipV="1" rot="10800000">
              <a:off x="561240" y="5474160"/>
              <a:ext cx="554760" cy="540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8" name="Text Box 47"/>
            <p:cNvSpPr/>
            <p:nvPr/>
          </p:nvSpPr>
          <p:spPr>
            <a:xfrm>
              <a:off x="340560" y="536724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6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59" name="AutoShape 48"/>
            <p:cNvCxnSpPr>
              <a:stCxn id="144" idx="6"/>
              <a:endCxn id="146" idx="0"/>
            </p:cNvCxnSpPr>
            <p:nvPr/>
          </p:nvCxnSpPr>
          <p:spPr>
            <a:xfrm>
              <a:off x="1547280" y="5474880"/>
              <a:ext cx="669240" cy="251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AutoShape 49"/>
            <p:cNvCxnSpPr>
              <a:stCxn id="146" idx="2"/>
              <a:endCxn id="150" idx="3"/>
            </p:cNvCxnSpPr>
            <p:nvPr/>
          </p:nvCxnSpPr>
          <p:spPr>
            <a:xfrm rot="5400000">
              <a:off x="1631880" y="5976000"/>
              <a:ext cx="467280" cy="700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AutoShape 50"/>
            <p:cNvCxnSpPr>
              <a:stCxn id="150" idx="3"/>
              <a:endCxn id="146" idx="1"/>
            </p:cNvCxnSpPr>
            <p:nvPr/>
          </p:nvCxnSpPr>
          <p:spPr>
            <a:xfrm flipV="1">
              <a:off x="1515960" y="5909760"/>
              <a:ext cx="535680" cy="650160"/>
            </a:xfrm>
            <a:prstGeom prst="curvedConnector5">
              <a:avLst>
                <a:gd name="adj1" fmla="val 49831"/>
                <a:gd name="adj2" fmla="val 49972"/>
                <a:gd name="adj3" fmla="val 49831"/>
              </a:avLst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62" name="Text Box 51"/>
            <p:cNvSpPr/>
            <p:nvPr/>
          </p:nvSpPr>
          <p:spPr>
            <a:xfrm>
              <a:off x="1640880" y="522288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Text Box 52"/>
            <p:cNvSpPr/>
            <p:nvPr/>
          </p:nvSpPr>
          <p:spPr>
            <a:xfrm>
              <a:off x="1419840" y="608652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2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Text Box 53"/>
            <p:cNvSpPr/>
            <p:nvPr/>
          </p:nvSpPr>
          <p:spPr>
            <a:xfrm>
              <a:off x="1990440" y="623088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5" name="Line 41"/>
          <p:cNvSpPr/>
          <p:nvPr/>
        </p:nvSpPr>
        <p:spPr>
          <a:xfrm flipV="1">
            <a:off x="719280" y="5859360"/>
            <a:ext cx="1311120" cy="24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Text Box 44"/>
          <p:cNvSpPr/>
          <p:nvPr/>
        </p:nvSpPr>
        <p:spPr>
          <a:xfrm>
            <a:off x="826920" y="5746680"/>
            <a:ext cx="3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  <a:ea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59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mprovement  </a:t>
            </a:r>
            <a:r>
              <a:rPr b="0" lang="it-IT" sz="2000" spc="-1" strike="noStrike">
                <a:solidFill>
                  <a:srgbClr val="a40508"/>
                </a:solidFill>
                <a:latin typeface="Lucida Sans"/>
              </a:rPr>
              <a:t>(group of fil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521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40508"/>
                </a:solidFill>
                <a:uFillTx/>
                <a:latin typeface="Lucida Sans"/>
              </a:rPr>
              <a:t>Problem: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 Constructing G is very costly, n</a:t>
            </a:r>
            <a:r>
              <a:rPr b="0" lang="en-US" sz="1800" spc="-1" strike="noStrike" baseline="30000">
                <a:solidFill>
                  <a:srgbClr val="3333cc"/>
                </a:solidFill>
                <a:latin typeface="Lucida Sans"/>
              </a:rPr>
              <a:t>2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edge calculations (</a:t>
            </a:r>
            <a:r>
              <a:rPr b="0" i="1" lang="en-US" sz="1800" spc="-1" strike="noStrike">
                <a:solidFill>
                  <a:srgbClr val="3333cc"/>
                </a:solidFill>
                <a:latin typeface="Lucida Sans"/>
              </a:rPr>
              <a:t>zdelta exec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 wish to exploit some pruning approach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6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"/>
              </a:rPr>
              <a:t>Collection analysis</a:t>
            </a:r>
            <a:r>
              <a:rPr b="0" lang="en-US" sz="1900" spc="-1" strike="noStrike">
                <a:solidFill>
                  <a:srgbClr val="000000"/>
                </a:solidFill>
                <a:latin typeface="Lucida Sans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 Cluster the files that appear similar and thus good candidates for zdelta-compression. Build a sparse weighted graph G’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 containing only edges between pairs of files in the same cluster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"/>
              </a:rPr>
              <a:t>Assign weights</a:t>
            </a:r>
            <a:r>
              <a:rPr b="0" lang="en-US" sz="1900" spc="-1" strike="noStrike">
                <a:solidFill>
                  <a:srgbClr val="000000"/>
                </a:solidFill>
                <a:latin typeface="Lucida Sans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 Estimate appropriate edge weights for G’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Lucida Sans"/>
              </a:rPr>
              <a:t>F 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thus saving zdelta execution. Nonetheless, strict n</a:t>
            </a:r>
            <a:r>
              <a:rPr b="0" lang="en-US" sz="17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00720" y="5300640"/>
          <a:ext cx="4464000" cy="1341360"/>
        </p:xfrm>
        <a:graphic>
          <a:graphicData uri="http://schemas.openxmlformats.org/drawingml/2006/table">
            <a:tbl>
              <a:tblPr/>
              <a:tblGrid>
                <a:gridCol w="1296720"/>
                <a:gridCol w="247680"/>
                <a:gridCol w="1635120"/>
                <a:gridCol w="12844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ncom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0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g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 m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6 m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10-08T10:28:02Z</dcterms:modified>
  <cp:revision>1206</cp:revision>
  <dc:subject/>
  <dc:title>Web Algorithmics</dc:title>
</cp:coreProperties>
</file>